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595-1FBF-42A2-99F4-69B2E699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0FBC-ED7B-4D23-83B2-7DB30B19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239-B4D7-4B6E-A0BF-20BDCB44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BB5-0564-4DE8-8C7F-29DCB870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AEC-7DC1-45BB-B1A8-14C50938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AED-403C-40C4-9A53-E3C3E971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9B2-5B96-4D69-93F5-775229D0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974-46A1-4A71-AD96-176D633F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1D77-1F94-4BA9-AE80-9B7B830B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510-E2CF-4AAF-B8F3-C98A08EB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357-A3E4-4CE5-80F5-E5CFDF4E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B83-F5C1-4492-B0B2-B388D5FD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4906-94C0-474F-B91F-4C096EB91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rans-siberia-tour-three-cities"/>
          <p:cNvPicPr/>
          <p:nvPr/>
        </p:nvPicPr>
        <p:blipFill>
          <a:blip r:embed="rId1"/>
          <a:stretch/>
        </p:blipFill>
        <p:spPr>
          <a:xfrm>
            <a:off x="0" y="-17640"/>
            <a:ext cx="1043928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99"/>
                </a:solidFill>
                <a:latin typeface="Berlin Sans FB Demi"/>
              </a:rPr>
              <a:t>Mov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66520" y="4343400"/>
            <a:ext cx="53341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Burst My Bubble"/>
              </a:rPr>
              <a:t>By:</a:t>
            </a:r>
            <a:r>
              <a:rPr b="0" lang="en-US" sz="4800" spc="-1" strike="noStrike">
                <a:solidFill>
                  <a:srgbClr val="cc66ff"/>
                </a:solidFill>
                <a:latin typeface="Burst My Bubble"/>
              </a:rPr>
              <a:t> </a:t>
            </a:r>
            <a:r>
              <a:rPr b="0" lang="en-US" sz="4800" spc="-1" strike="noStrike">
                <a:solidFill>
                  <a:srgbClr val="cc00ff"/>
                </a:solidFill>
                <a:latin typeface="Burst My Bubble"/>
              </a:rPr>
              <a:t>Alissa Tam</a:t>
            </a:r>
            <a:r>
              <a:rPr b="0" lang="en-US" sz="4800" spc="-1" strike="noStrike">
                <a:solidFill>
                  <a:srgbClr val="cc66ff"/>
                </a:solidFill>
                <a:latin typeface="Burst My Bubble"/>
              </a:rPr>
              <a:t> </a:t>
            </a:r>
            <a:r>
              <a:rPr b="0" lang="en-US" sz="4800" spc="-1" strike="noStrike">
                <a:solidFill>
                  <a:srgbClr val="ff3399"/>
                </a:solidFill>
                <a:latin typeface="Burst My Bubble"/>
              </a:rPr>
              <a:t>and</a:t>
            </a:r>
            <a:r>
              <a:rPr b="0" lang="en-US" sz="4800" spc="-1" strike="noStrike">
                <a:solidFill>
                  <a:srgbClr val="cc66ff"/>
                </a:solidFill>
                <a:latin typeface="Burst My Bubble"/>
              </a:rPr>
              <a:t> </a:t>
            </a:r>
            <a:r>
              <a:rPr b="0" lang="en-US" sz="4800" spc="-1" strike="noStrike">
                <a:solidFill>
                  <a:srgbClr val="66ff33"/>
                </a:solidFill>
                <a:latin typeface="Burst My Bubble"/>
              </a:rPr>
              <a:t>Bridget Durgin</a:t>
            </a:r>
            <a:r>
              <a:rPr b="0" lang="en-US" sz="4000" spc="-1" strike="noStrike">
                <a:solidFill>
                  <a:srgbClr val="66ff33"/>
                </a:solidFill>
                <a:latin typeface="Burst My Bubb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auhaus 93"/>
              </a:rPr>
              <a:t>Wate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any Russian rivers run from south to north making their use difficult during the wi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ost ports are covered in snow and 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The traders must transport their goods another 200 miles to reach the nearest part of inland Russ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Matura MT Script Capitals"/>
              </a:rPr>
              <a:t>Port Ci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Russia has two important ports called Kaliningrad and St. Petersbur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Kaliningrad is located on a small island in the Baltic S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t’s the only port that stays ice-free the whol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n the summer they have the choice of keeping their goods on the ships to travel 500 miles to St. Petersbur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vie"/>
              </a:rPr>
              <a:t>Railr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vel is the main transportation of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In 1995 Russia had 154,000km of railroads but 26% of them were electr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ffic dropped since the beginning of the Russian economic reform, making the economy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Kristen ITC"/>
              </a:rPr>
              <a:t>Ai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 donation of air service of total travel has dropped to 12.5% by 199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 number of passengers flying was less then half the 1990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y pay part of air fares and long distance flights between cities accounted for much of the air activity in the early 199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image1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viet citizens rely on public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six Russian cities have underground transportation, Moscow, St. Petersburg, Yekaterinburg, Nizhniy, Novgorod, Novosibirsk, and Sama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t of vehicles require expensive repair and moder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5Z</dcterms:created>
  <dc:creator>Student</dc:creator>
  <dc:description/>
  <dc:language>en-US</dc:language>
  <cp:lastModifiedBy>Alissa Tam</cp:lastModifiedBy>
  <dcterms:modified xsi:type="dcterms:W3CDTF">2010-12-20T22:23:53Z</dcterms:modified>
  <cp:revision>6</cp:revision>
  <dc:subject/>
  <dc:title>Movement</dc:title>
</cp:coreProperties>
</file>